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6D04C-7613-4401-87A9-F663812B6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FA3EA-9A7E-47CD-9520-76737C8CE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538B6-6ED3-4770-8FFD-0D2FE3D04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56CACD-6EE1-4A59-B72A-9A9632052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50E47-378B-4F03-ADA4-77B365CF1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0E937-9A86-40DD-872D-064846FA3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484B2-7589-4157-8288-E64B8C108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9F4DA-88A2-4A95-B77D-FBF50E0C2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26522-1A66-4FCA-A71A-DFFBAC15E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C2553-DE52-4C35-8D59-220662ACB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8430C-38F5-4E65-A1AD-65B87D385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3D946-289F-4EDF-B053-38E666DAE6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A4E07-9305-48A9-BCDA-C12E249775D6}"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3 : Tanımlar</a:t>
            </a:r>
            <a:endParaRPr b="0" lang="en-US" sz="3200" spc="-1" strike="noStrike">
              <a:solidFill>
                <a:srgbClr val="000000"/>
              </a:solidFill>
              <a:latin typeface="Times New Roman"/>
            </a:endParaRPr>
          </a:p>
        </p:txBody>
      </p:sp>
      <p:sp>
        <p:nvSpPr>
          <p:cNvPr id="42"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Finansal Holding Şirket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Finansal Kuruluş</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ontro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Ana Ortaklı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ağlı Ortaklı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Nitelikli Pa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Hakim Orta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Destek Hizmeti Kuruluşu</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1 : Kredi Açma</a:t>
            </a:r>
            <a:endParaRPr b="0" lang="en-US" sz="3200" spc="-1" strike="noStrike">
              <a:solidFill>
                <a:srgbClr val="000000"/>
              </a:solidFill>
              <a:latin typeface="Times New Roman"/>
            </a:endParaRPr>
          </a:p>
        </p:txBody>
      </p:sp>
      <p:sp>
        <p:nvSpPr>
          <p:cNvPr id="6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 maddede;</a:t>
            </a:r>
            <a:endParaRPr b="0" lang="en-US" sz="28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Yönetim kurulunun kredi açma, onay verme ve diğer idari esaslara ilişkin politikaları oluşturmak, bunların uygulanmasını ve izlenmesini sağlamak ve gerekli tedbirleri almak ile yükümlü olduğu,</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redi açma yetkisini haiz olanların, kendileri, eşleri  ve velayet altındaki çocukları ile bunlarla risk grubu oluşturan kişilerin kredi taleplerine ilişkin değerlendirme ve karar verme aşamalarında yer alamayacağı ve bu durumu yazılı olarak yetkililere bildirmekle yükümlü olduğu, </a:t>
            </a:r>
            <a:endParaRPr b="0" lang="en-US" sz="2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elirtilerek hem kredi sürecinin önceden yönetim kurulu tarafından belirlenmiş politikalar çerçevesinde yürütülmesi hem de muhtemel çıkar çatışmalarının önlenmesi hedeflenmiş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1 : Kredi Açma - Diğer</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Kurul, Kanunun 50. ve 51. Maddelerine aykırı açılan kredilerin, özkaynaktan indirim kalemi olarak dikkate alınmasına karar vermeye veya bu krediler tutarında ilave öz kaynak temin edilmesini zorunlu tutmaya yetkili kılınmıştı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Kanunda, 52. ve 53. Madde ile, kredilerin izlenmesi ile karşılıklar ve teminatlara ilişkin temel esaslara yer verilmiş; uygulama esasları Kurul’un yetkisine bırakılmıştı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Aracılık maliyetlerini artıracak olmasına rağmen kanunun 76. Maddesi ile müşterilere kredi sözleşmelerinin bir nüshasının verilmesi zorunlu kılınmıştı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4 : Kredi Sınırları</a:t>
            </a:r>
            <a:endParaRPr b="0" lang="en-US" sz="3200" spc="-1" strike="noStrike">
              <a:solidFill>
                <a:srgbClr val="000000"/>
              </a:solidFill>
              <a:latin typeface="Times New Roman"/>
            </a:endParaRPr>
          </a:p>
        </p:txBody>
      </p:sp>
      <p:sp>
        <p:nvSpPr>
          <p:cNvPr id="6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ankanın dahil olduğu risk grubuna açılacak krediler özkaynakların %20’si ile sınırlandırılmıştır. Kurul bu sınırı %25’e kadar yükseltmeye ve tekrar indirmeye yetkili kılınmıştı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Diğer risk gruplarından her bir risk grubuna açılacak krediler özkaynakların %25’i ile sınırlandırılmıştı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anka sermayesinde %1 ve daha fazla paya sahip olup pay defterine kayıtlı olan ortaklara ve bunlarla risk grubu oluşturan kişilere kullandırılacak kredilerin toplamı özkaynakların %50’si ile sınırlandırılmıştı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4 : Kredi Sınırları</a:t>
            </a:r>
            <a:endParaRPr b="0" lang="en-US" sz="3200" spc="-1" strike="noStrike">
              <a:solidFill>
                <a:srgbClr val="000000"/>
              </a:solidFill>
              <a:latin typeface="Times New Roman"/>
            </a:endParaRPr>
          </a:p>
        </p:txBody>
      </p:sp>
      <p:sp>
        <p:nvSpPr>
          <p:cNvPr id="6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Birlikte kontrol edilen ortaklıklarda kredi, ortaklığı birlikte kontrol eden hissedarlara payları oranında kullandırılmış sayılır</a:t>
            </a:r>
            <a:r>
              <a:rPr b="0" lang="en-US" sz="2400" spc="-1" strike="noStrike">
                <a:solidFill>
                  <a:srgbClr val="000000"/>
                </a:solidFill>
                <a:latin typeface="Times New Roman"/>
              </a:rPr>
              <a:t>” hükmü ile birlikte kontrol edilen ortaklıklara ilişkin risk dağıtımı netleştirilmişti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 maddede yer verilen “Kredi sınırları, ana ortaklık bakımından konsolide esasa göre uygulanır” hükmü çerçevesinde kredi sınırlamalarının sadece konsolide bazda hesaplanacağı düşünülmektedir. Ancak, bu kanuna ilişkin olarak çıkarılacak yönetmeliklerde bu hususun açıklığa kavuşturulması beklenmelidi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çici Madde 5 : Kredi Sınırları</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redi sınırlarının hesabında; </a:t>
            </a:r>
            <a:endParaRPr b="0" lang="en-US" sz="24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nkanın dahil olduğu risk grubu açısından sınır 2005 yılında %35, 2006 yılında %25 ve 1.1.2007 tarihinden itibaren %20 olarak uygulanacaktır.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ğer risk grupları açısından sınır 2005 yılında %35 ve 1.1.2006 tarihinden itibaren %25 olarak uygulanacaktır. </a:t>
            </a:r>
            <a:endParaRPr b="0" lang="en-US" sz="2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rtaklık payları 2005 yılında %40, 2006 yılında %50, 2007 yılında %60, 2008 yılında %75, 2009 yılında %90 ve 1.1.2010 tarihinden itibaren de %100 oranında dikkate alınacaktı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5 : Kredi Sınırlamalarına Tabi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Olmayan İşlemler </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Temelde bir önceki yasadaki istisnalar korunmuştur, ancak bir önceki yasadan farklı olarak maddenin son bendindeki ‘Kurulca belirlenecek diğer işlemler’ ibaresi ile Kurul’a yeni istisnalara belirleme yetkisi verilmişti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6 : Ortaklık Paylarına İlişkin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Sınırlamalar</a:t>
            </a:r>
            <a:endParaRPr b="0" lang="en-US" sz="3200" spc="-1" strike="noStrike">
              <a:solidFill>
                <a:srgbClr val="000000"/>
              </a:solidFill>
              <a:latin typeface="Times New Roman"/>
            </a:endParaRPr>
          </a:p>
        </p:txBody>
      </p:sp>
      <p:sp>
        <p:nvSpPr>
          <p:cNvPr id="7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ir bankanın kredi kuruluşları ve finansal kuruluşlar dışındaki bir ortaklıktaki payı Banka özkaynaklarının %15’ini ve bu ortaklıklardaki paylarının toplamı Banka özkaynaklarının %60’ını aşamaz kuralı korund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İştirak edilen şirketin sermayesinin %10’undan daha düşük olan iştiraklere ilişkin istisna kaldırıldı.</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Sınırların aşılması halinde aşım tutarının özkaynak hesabında ana sermayeden indirim kalemi olarak dikkate alınması hükmü getirild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tek Hizmeti Kuruluşları </a:t>
            </a:r>
            <a:endParaRPr b="0" lang="en-US" sz="3200" spc="-1" strike="noStrike">
              <a:solidFill>
                <a:srgbClr val="000000"/>
              </a:solidFill>
              <a:latin typeface="Times New Roman"/>
            </a:endParaRPr>
          </a:p>
        </p:txBody>
      </p:sp>
      <p:sp>
        <p:nvSpPr>
          <p:cNvPr id="7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Madde 15 : Destek hizmeti kuruluşlarının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yetkilendirilmesine ve yetkilerin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kaldırılmasına Kurul’ca karar verili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Madde 35 : Destek hizmeti kuruluşlarına ve hizme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alınabilecek konulara ilişkin usul ve esaslar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Kurul’ca belirlenir.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Madde 36 : Destek hizmeti kuruluşları verdikleri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hizmetlerden doğabilecek zararları karşılamak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amacıyla sorumluluk sigortası yaptırmak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zorundadı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Özkaynaklar ve Standart Oranlar</a:t>
            </a:r>
            <a:br>
              <a:rPr sz="3200"/>
            </a:br>
            <a:r>
              <a:rPr b="1" lang="tr-TR" sz="3200" spc="-1" strike="noStrike">
                <a:solidFill>
                  <a:srgbClr val="000000"/>
                </a:solidFill>
                <a:latin typeface="Times New Roman"/>
              </a:rPr>
              <a:t>Madde 43 : Koruyucu Düzenlemeler</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ruyucu Düzenlemeler ile Kurul hem konsolide hem de konsolide olmayan bazda Mali Bünyeyi etkileyen tüm unsurların ve maruz kalınan risklerin Tespiti, Tahlili, İzlenmesi, Ölçülmesi ve Değerlendirilmesi Amacıyl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t Oranlar ve Sınırlamalar belirlem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 hususta gerekli düzenlemeleri yapma ve bunlar hakkında her türlü tedbiri alma</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susunda yetkili kılınmıştı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yrıca Kurul, Kurumsal Yönetim Hükümleri ve Koruyucu Hükümlerin uygulanmasını dikkate alarak her bir banka veya banka grubu için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ha ihtiyatlı sınır ve oranlar tespit edebilm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saplama ve bildirim dönemlerini farklılaştırm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l olarak belirlenmemiş sınır ve oranlar tespit etme</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ususunda yetkili kılınmıştı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45 : Sermaye Yeterliliği</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 oranındaki minimum sermaye yeterliliği oranı yeni yasada da korunmuştu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yrıca Kurul, Bankaların iç sistemleri, aktif ve mali yapılarını dikkate alarak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gari sermaye yeterliliği oranını artırmay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nkalar bazında farklılaştırmay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ynağı katılma hesabı olan aktiflerin risk ağırlıklarını belirlemeye</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etkili kılınmışt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47 : Aşımların Giderilmesi</a:t>
            </a:r>
            <a:endParaRPr b="0" lang="en-US" sz="3200" spc="-1" strike="noStrike">
              <a:solidFill>
                <a:srgbClr val="000000"/>
              </a:solidFill>
              <a:latin typeface="Times New Roman"/>
            </a:endParaRPr>
          </a:p>
        </p:txBody>
      </p:sp>
      <p:sp>
        <p:nvSpPr>
          <p:cNvPr id="4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u kanun ve kanuna bağlı olarak getirilen düzenlemelerde yer alan sınırlama ve oranlara ilişkin aşımların Kurul tarafından belirlenecek usul ve esaslar çerçevesinde giderilmesi zorunlu kılınmıştı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Özkaynaklarda meydana gelebilecek düşüşler nedeniyle oluşabilecek aşımlar Kurum’un belirleyeceği bir sürede giderilecek, bu süre içinde idari para cezalarına ilişkin hükümler uygulanmayacaktı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rediler ve Risk Grubu</a:t>
            </a:r>
            <a:br>
              <a:rPr sz="3200"/>
            </a:br>
            <a:r>
              <a:rPr b="1" lang="en-US" sz="3200" spc="-1" strike="noStrike">
                <a:solidFill>
                  <a:srgbClr val="000000"/>
                </a:solidFill>
                <a:latin typeface="Times New Roman"/>
              </a:rPr>
              <a:t>Madde 48 : Krediler</a:t>
            </a:r>
            <a:endParaRPr b="0" lang="en-US" sz="3200" spc="-1" strike="noStrike">
              <a:solidFill>
                <a:srgbClr val="000000"/>
              </a:solidFill>
              <a:latin typeface="Times New Roman"/>
            </a:endParaRPr>
          </a:p>
        </p:txBody>
      </p:sp>
      <p:sp>
        <p:nvSpPr>
          <p:cNvPr id="5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ir önceki kanunda yer alan ve kanunun uygulamasında Kredi sayılan işlemlere ilişkin tanıma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ontrgarantil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Gayrinakdi kredi niteliğindeki taahhütl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Tahakkuk etmekle birlikte tahsil edilmemiş faizl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Ters repo işlemlerinden alacakla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Vadeli işlem , opsiyon ve benzeri sözleşmeler nedeniyle üstlenilen riskl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urulca kredi olarak kabul edilen işlemler </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r>
              <a:rPr b="0" lang="tr-TR" sz="2800" spc="-1" strike="noStrike">
                <a:solidFill>
                  <a:srgbClr val="000000"/>
                </a:solidFill>
                <a:latin typeface="Times New Roman"/>
              </a:rPr>
              <a:t>dahil edilmiş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49 : Risk Grubu</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işi, Eşi ve Çocukları ile bunların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Yönetim kurulu üyesi veya genel müdürü oldukları ortaklıklar,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Birlikte veya tek başına doğrudan veya dolaylı olarak kontrol ettikleri ortaklıkla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Sınırsız sorumlulukla katıldıkları ortaklıklar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ir banka, bu bankanın nitelikli pay sahipleri, yönetim kurulu üyeleri ve genel müdürü ile bunların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Yönetim kurulu üyesi veya genel müdürü oldukları ortaklıklar,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Birlikte veya tek başına doğrudan veya dolaylı olarak kontrol ettikleri ortaklıklar,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Sınırsız sorumlulukla katıldıkları ortaklıklar</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49 : Risk Grubu</a:t>
            </a:r>
            <a:endParaRPr b="0" lang="en-US" sz="3200" spc="-1" strike="noStrike">
              <a:solidFill>
                <a:srgbClr val="000000"/>
              </a:solidFill>
              <a:latin typeface="Times New Roman"/>
            </a:endParaRPr>
          </a:p>
        </p:txBody>
      </p:sp>
      <p:sp>
        <p:nvSpPr>
          <p:cNvPr id="5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urul  </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önetim kurulu üyeliği,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l müdürlük,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layet altında olmayan çocuklar</a:t>
            </a: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çısından risk grubuna dahil edilme esaslarını belirleme yetkisine sahip kılınmıştı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rinin ödeme güçlüğüne düşmesinin diğer bir  veya birkaçının ödeme güçlüğüne düşmesi sonucunu doğuracak boyutta kefalet, garanti ve benzeri ilişkiler bulunan gerçek ve tüzel kişiler ilgili risk grubuna dahil edilir.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0 : Banka Risk Grubu ve Mensuplara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Kredi Kullandırma</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Banka risk grubuna kullandırılan kredilerde,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redi kararlarının yönetim kurulu üye tam sayısının 2/3 çoğunluğu ile alınması ve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redi koşullarının kredi kullananın lehine diğer kişi ve gruplara kullandırılanlardan ve piyasa koşullarından farklılık arz etmemesi şarttı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anka risk grubunda yer alan kişilere açılan krediler Kurum’a düzenli olarak raporlanır, </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r>
              <a:rPr b="0" lang="tr-TR" sz="2800" spc="-1" strike="noStrike">
                <a:solidFill>
                  <a:srgbClr val="000000"/>
                </a:solidFill>
                <a:latin typeface="Times New Roman"/>
              </a:rPr>
              <a:t>gibi hükümler ile Banka-Banka risk grubu kredi ilişkilerini daha ayrıntılı bir biçimde düzenleme yoluna gidilmişt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0 : Banka Risk Grubu ve Mensuplara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Kredi Kullandırma</a:t>
            </a:r>
            <a:endParaRPr b="0" lang="en-US" sz="3200" spc="-1" strike="noStrike">
              <a:solidFill>
                <a:srgbClr val="000000"/>
              </a:solidFill>
              <a:latin typeface="Times New Roman"/>
            </a:endParaRPr>
          </a:p>
        </p:txBody>
      </p:sp>
      <p:sp>
        <p:nvSpPr>
          <p:cNvPr id="5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anın yönetim kurulu üyelerine, mensuplarına ve bunların eşlerine ve velayet altındaki çocuklarına verilebilecek krediler kanunda açıkça sayılmıştır. Bunla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ylık net ücretin 5 katına kadar verilecek kredil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ylık net ücretin 3 katına kadar çek karnesi ve kredi kartı verilmesi suretiyle kullandırılacak kredil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kit, nakit benzeri kıymet ve hesaplar ile kıymetli madenler karşılığı açılacak kredil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zine, TCMB, ÖİB ve TOKİ tarafından ihraç edilen veya ödemesi garanti edilen borçlanmaya ilişkin menkul kıymetler karşılığı verilecek krediler,</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larak belirlenmişt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8T18:49:58Z</dcterms:created>
  <dc:creator>MM35711</dc:creator>
  <dc:description/>
  <dc:language>en-US</dc:language>
  <cp:lastModifiedBy>tascioglua</cp:lastModifiedBy>
  <dcterms:modified xsi:type="dcterms:W3CDTF">2005-11-14T08:49:28Z</dcterms:modified>
  <cp:revision>20</cp:revision>
  <dc:subject/>
  <dc:title>Madde 3 : Tanımlar</dc:title>
</cp:coreProperties>
</file>